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1D1-6A96-498E-948D-D08158EE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F69-B4B2-4A9C-9A38-8780D09F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9A7-434D-4415-879B-AD3BEEBE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7C7-28B8-4179-AA55-0DE82D49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C066-A150-4553-97DE-E3C41671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3C1D-439F-40E5-99BE-08D0D41E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1CDD-3CB7-4E5D-AFE3-8C5CCFDF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04D1-3909-44DF-93B1-FD9D7738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0D55-B40F-4DD9-9EB2-1B92024B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A221-4F46-4E0D-BC73-13B90197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7563-4883-4E52-9BD0-30CD0CBE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D7E-81F3-44BF-80D4-6D347474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68A2-7785-43DA-8606-F1164D58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5067-D62D-4974-BD73-5C423766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ACA9-4B15-495E-AC8A-6DEF8F21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B219-BDFE-493E-BBA9-A44B7247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251C-D36A-481B-9460-A6B0011C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497FB-DD46-4CE2-95A0-F615C9FB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14D95-4A48-42D1-95DB-0301000B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C0D6D-B61E-4AD2-8D43-EDD35988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31192-CE9A-4896-BE85-0513ECC6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6AE8D-3101-47BE-A191-99847221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A24-E4D2-4989-88DE-377BD2F5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829F6-C47A-4EF0-8B7F-44168ADF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16918-23C8-45F5-8036-58AE1FD2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373A4-5300-41EC-AF79-8AE7939B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2BB7C-86FB-4909-A5A0-CD7B32D9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C9730-05A8-450D-B9EE-64632F47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60616-5579-4F95-ADD9-274EAED6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670C3-DB1C-4192-9725-C1F192F4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4DFF26-0DE9-49D1-B8B6-1BA8EBC4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3D0F4B-FDF0-4766-93AC-575A6B53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035D1-EE7D-4981-9947-7CA70016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005-F19F-427E-B724-AACBC194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6DAD3-478F-4AD2-88D4-6342975B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F2E9F-A1CD-4A23-B242-CF6CD047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4580FB-AC8E-44D9-A4E1-2AE4FD88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E0E98D-2B36-4BA6-867A-109272E6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39E6A-B642-4221-9AB5-614A0AB2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4155D6-7E8F-4F2A-BA56-332B1DC0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84EB4-0F3D-4B86-90E3-6452C77D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700D3-5121-4B5F-97C3-A7BFA320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50E52-D010-432A-9B73-D2DA12B4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C7EE9-290E-4967-A3BE-8B00B767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F6B-EE2B-4393-A6DC-038C7727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1BFBF-7D5E-4704-9995-6E00E049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658429-3214-4C14-8B77-3D17C2C3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04FAF-B935-42A1-B417-744951D3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3C0E7-FE36-4F2E-B99C-02093F38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5AA31-DC54-4F1E-BA10-F4C820CA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30E6B4-150F-4602-A74F-C80BC545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7D257-BBD0-4664-998F-0C8B67CA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1885E-AB86-45D8-869E-80C0547C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22322-0941-4DD3-B89E-A656DE85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C516F9-82AA-4A35-9AF5-9061396D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DA17-0D2E-422D-B654-651BAD8A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E395A-803A-4B24-8EF9-882D6433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28559-95DB-4774-B3B4-E29541AA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3F05D-5BAE-4A84-BC75-8C43F87C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1F06B-FFD9-482E-BC68-B300FA8F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CCCBC-87CF-461D-BB21-A9B05056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4C836-1201-4C48-822F-F6DE75EF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653DC-5902-4EA6-B56A-D1377721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FC265-726D-4EFB-8D0A-C6BA8688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0DF48-98F5-44A2-9DDC-706BA5A9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C8000-E797-44A7-9DCC-60778ABD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0BB-CEFB-4360-834B-9487DBE8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E1CA1-0C50-4B13-9A76-798BF58A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D35D4-1764-45CC-AA0F-A25C6ED4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157C4-B939-46B2-A72C-34EFA09E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1DF08-5A41-4A1F-A009-C245A969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B962D-F573-4390-A397-B6756AE6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FBE4AB-AC21-4EF2-8C64-A602378F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6FF7FC-1D8E-4509-83AA-F1B3A8D3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EDB8C-605A-404D-8FEE-84E5149D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CDE3FA-5161-47E0-8280-FBD3B89C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EE9C9D-1BD5-4AE3-B102-1D1EECED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136-F53B-42C5-B1AA-01BD2BF1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360D03-87FA-4EA3-8B1A-1747A641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A2744-FFD9-4A2E-B64E-3C77D896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51B024-98CD-4CD8-9851-5F24C325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E85E0B-47C2-4A22-8189-7C82C035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20EE2-A390-47C3-809D-E04243C5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96E0F-DC4D-498A-A0C5-CBE30E49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0E3D4-01B9-4EEA-9169-2AE75C9E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4F6F5-D5C6-4E7A-9AAF-47349379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50E8C-EC06-4F7D-8837-239DBD6F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8B616-E0ED-4C7E-AD25-B9A7B0E2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898-31D9-4772-A021-A74C33DE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744DD-04CC-4B76-8E6C-E27E0EE3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59CB8-EF0F-4BB8-BB59-F3998B95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35E2E-8962-442E-8DF7-3A46D8BC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55424-D596-4CD8-BDDE-03963F1E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7232A-0774-4BB1-AC49-AE3FE471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A2BCB-83F8-4EE1-84B0-2FC12511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6CAED-3E68-4106-B4C8-F7DEAF5E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19D5-01DD-40D3-8549-31A7F81C01EF}" type="slidenum">
              <a:rPr b="1" lang="en-A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39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1A82-9A4A-4813-B9CC-15B9823C892A}" type="slidenum">
              <a:rPr b="1" lang="en-AU" sz="1400" spc="-1" strike="noStrike">
                <a:solidFill>
                  <a:srgbClr val="fff39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FE93-78A7-44E7-A0E5-0D12F0A8D935}" type="slidenum">
              <a:rPr b="1" lang="en-AU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C633-DA12-4C74-8C41-ADFD94944DD8}" type="slidenum">
              <a:rPr b="1" lang="en-A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A2A7-8825-45E9-A81A-5B68720D7F56}" type="slidenum">
              <a:rPr b="1" lang="en-A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B7ED-0DC0-4A33-86A2-54CB39B37CBF}" type="slidenum">
              <a:rPr b="1" lang="en-AU" sz="1400" spc="-1" strike="noStrike">
                <a:solidFill>
                  <a:srgbClr val="575f6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DF1A-57E9-4D9F-B934-1ECF58B6E9ED}" type="slidenum">
              <a:rPr b="1" lang="en-AU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6616-4D21-4242-B019-D9E1B0FFA7F9}" type="slidenum">
              <a:rPr b="1" lang="en-A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allydownundy.com/wp-content/uploads/2008/04/sol-trujillo.jpg&amp;imgrefurl=http://wallydownundy.com/2008/04/22/wikipedia-best-practise-by-telstra/&amp;usg=__1yDPVjXg-Y3Fz2Lgvv4-3JyyzNA=&amp;h=584&amp;w=840&amp;sz=43&amp;hl=en&amp;start=2&amp;tbnid=eijH9cKugin8WM:&amp;tbnh=101&amp;tbnw=145&amp;prev=/images%3Fq%3Dsol%2Btrujillo%26gbv%3D2%26hl%3D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.au/imgres?imgurl=http://poll-inc.com/polls/richard-branson/richard_branson.jpg&amp;imgrefurl=http://poll-inc.com/polls/richard-branson/&amp;usg=__CgTZv__7vjCJybmddMgKeIPV3ZA=&amp;h=414&amp;w=318&amp;sz=37&amp;hl=en&amp;start=2&amp;tbnid=x0JzupCB8NnVoM:&amp;tbnh=125&amp;tbnw=96&amp;prev=/images%3Fq%3Drichard%2Bbranson%26gbv%3D2%26hl%3Den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.au/imgres?imgurl=http://scrapetv.com/News/News%2520Pages/Technology/images/steve-jobs-3g-iphone.jpg&amp;imgrefurl=http://scrapetv.com/News/News%2520Pages/main%2520pages/Technology-Main-Page-Scrape-TV-The-World-on-your-side.html&amp;usg=__esMimc5yV-2TN1aICuSIAtszlb8=&amp;h=400&amp;w=400&amp;sz=102&amp;hl=en&amp;start=7&amp;tbnid=cbhC_UWLCu59IM:&amp;tbnh=124&amp;tbnw=124&amp;prev=/images%3Fq%3Dsteve%2Bjobs%26gbv%3D2%26hl%3De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.au/imgres?imgurl=http://usversusthem.files.wordpress.com/2008/02/barack-obama-is-on-fire.jpg&amp;imgrefurl=http://www.wearehymn.com/&amp;usg=__wTHbzWRYPPsChEIBSuBA4rw2GTE=&amp;h=1123&amp;w=750&amp;sz=138&amp;hl=en&amp;start=8&amp;tbnid=vVNij3PppxkKLM:&amp;tbnh=150&amp;tbnw=100&amp;prev=/images%3Fq%3Dbarack%2Bobama%26gbv%3D2%26hl%3De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com.au/imgres?imgurl=http://reporter.blogs.com/photos/uncategorized/2007/11/14/murdoch.jpg&amp;imgrefurl=http://reporter.blogs.com/thresq/defamation/index.html&amp;usg=__HlE-TTAAeSQ7tf7iQSaHY5udlS0=&amp;h=471&amp;w=350&amp;sz=163&amp;hl=en&amp;start=3&amp;tbnid=Wjs64bVUTNGYXM:&amp;tbnh=129&amp;tbnw=96&amp;prev=/images%3Fq%3DRupert%2BMurdoch%26gbv%3D2%26hl%3Den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butnerpres.org/assets/images/group_clipart.gif.jpg&amp;imgrefurl=http://www.butnerpres.org/html/session.html&amp;usg=__24M04uQLNWiD5a2lfUp_6jgat-o=&amp;h=319&amp;w=481&amp;sz=19&amp;hl=en&amp;start=17&amp;tbnid=K3vxfb27-SCfnM:&amp;tbnh=86&amp;tbnw=129&amp;prev=/images%3Fq%3Dgroup%2Bclip%2Bart%26gbv%3D2%26hl%3De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butnerpres.org/assets/images/group_clipart.gif.jpg&amp;imgrefurl=http://www.butnerpres.org/html/session.html&amp;usg=__24M04uQLNWiD5a2lfUp_6jgat-o=&amp;h=319&amp;w=481&amp;sz=19&amp;hl=en&amp;start=17&amp;tbnid=K3vxfb27-SCfnM:&amp;tbnh=86&amp;tbnw=129&amp;prev=/images%3Fq%3Dgroup%2Bclip%2Bart%26gbv%3D2%26hl%3De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clipartof.com/images/clipart/xsmall2/15098_relaxed_blue_business_person_seated_in_a_chair_in_front_of_a_computer_his_feet_crossed_and_up_on_the_desk_while_leaning_back_and_looking_at_graphs_showing_an_increase_in_sales.jpg&amp;imgrefurl=http://www.clipartof.com/details/clipart/15098.html&amp;usg=__IXhyhZ8uDa_XGX3kpgohffiKjOM=&amp;h=338&amp;w=450&amp;sz=75&amp;hl=en&amp;start=1&amp;tbnid=FIeZ25N6Vh5JOM:&amp;tbnh=95&amp;tbnw=127&amp;prev=/images%3Fq%3Drelaxed%2Bboss%2Bclip%2Bart%26gbv%3D2%26hl%3De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clipartof.com/images/clipart/xsmall2/15098_relaxed_blue_business_person_seated_in_a_chair_in_front_of_a_computer_his_feet_crossed_and_up_on_the_desk_while_leaning_back_and_looking_at_graphs_showing_an_increase_in_sales.jpg&amp;imgrefurl=http://www.clipartof.com/details/clipart/15098.html&amp;usg=__IXhyhZ8uDa_XGX3kpgohffiKjOM=&amp;h=338&amp;w=450&amp;sz=75&amp;hl=en&amp;start=1&amp;tbnid=FIeZ25N6Vh5JOM:&amp;tbnh=95&amp;tbnw=127&amp;prev=/images%3Fq%3Drelaxed%2Bboss%2Bclip%2Bart%26gbv%3D2%26hl%3De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cftopper.com/images/lib/Crap/secretary.gif&amp;imgrefurl=http://www.cftopper.com/index.cfm/blogId/1/tag/Online&amp;usg=__3i83NnGcfDhkpWE3tMOT4i56x5M=&amp;h=215&amp;w=339&amp;sz=20&amp;hl=en&amp;start=7&amp;tbnid=4jTyUCx4Oc8E0M:&amp;tbnh=75&amp;tbnw=119&amp;prev=/images%3Fq%3Dbusy%2Bclip%2Bart%26gbv%3D2%26hl%3Den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api.ning.com/files/Sbays6GpgIi*xV1QgPGfHdmUcAsMULncdtN2dX1wAlEvFzpMp0fkBJSfbA1jikSm7FcBPknVWmD1g4Ni3GQXDjumEItx5GVf/direct_communication_marketing.jpg&amp;imgrefurl=http://telecentrefamily.ning.com/xn/detail/u_nsgzrri1cxdq&amp;usg=__QoGKrUjuYZTsTR-wWTbO8IRDXUs=&amp;h=303&amp;w=450&amp;sz=23&amp;hl=en&amp;start=1&amp;tbnid=nfSoYYRkGzSrxM:&amp;tbnh=86&amp;tbnw=127&amp;prev=/images%3Fq%3Dcommunication%26gbv%3D2%26hl%3De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msnbcmedia1.msn.com/j/msnbc/Components/Photos/070301/070301_bizstock_hmed_12p.hmedium.jpg&amp;imgrefurl=http://www.msnbc.msn.com/id/17403234/&amp;usg=__IcDr5NsTtiVhdOFs1iLRvvodEdc=&amp;h=273&amp;w=397&amp;sz=18&amp;hl=en&amp;start=3&amp;tbnid=J0s635BgaODkFM:&amp;tbnh=85&amp;tbnw=124&amp;prev=/images%3Fq%3Dboss%2Bemployee%26gbv%3D2%26hl%3De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finearts.utexas.edu/images/cfa/graphic_identity_guidelines/memo.gif&amp;imgrefurl=http://www.finearts.utexas.edu/cfa/graphic_identity_guidelines/CoFA_Style.cfm&amp;usg=__EXy7bhg4jXunXsikvibAP8XaVV0=&amp;h=534&amp;w=390&amp;sz=7&amp;hl=en&amp;start=6&amp;tbnid=bJXTusdYSIox_M:&amp;tbnh=132&amp;tbnw=96&amp;prev=/images%3Fq%3Dmemo%26gbv%3D2%26hl%3De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blogs.rsvp.com.au/Bogan%2520200%2520x%2520200.gif&amp;imgrefurl=http://blogs.rsvp.com.au/2007/06/bogan_dating.html&amp;usg=__budqhdSvvfWJbApBLsoUVQhmeFY=&amp;h=200&amp;w=200&amp;sz=25&amp;hl=en&amp;start=17&amp;tbnid=gCp0AJiv8K2dKM:&amp;tbnh=104&amp;tbnw=104&amp;prev=/images%3Fq%3Dbogan%26gbv%3D2%26hl%3Den%26sa%3D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.au/imgres?imgurl=http://z.about.com/d/animatedtv/1/0/1/m/simp2006_HomerArmsCrossed_f.jpg&amp;imgrefurl=http://animatedtv.about.com/od/picturegalleries/ig/The-Simpsons-Pictures---18/Homer-Simpson--Arms-Crossed.htm&amp;usg=__LzvBSVSUy34NAV3klOiGhB3gsuE=&amp;h=432&amp;w=346&amp;sz=26&amp;hl=en&amp;start=1&amp;tbnid=-sFJ2Ep2dAOMbM:&amp;tbnh=126&amp;tbnw=101&amp;prev=/images%3Fq%3Darms%2Bcrossed%26gbv%3D2%26hl%3Den%26sa%3DX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.au/imgres?imgurl=http://www.winegolftours.com.au/images/PubTourAtCommercialHotel.jpg&amp;imgrefurl=http://www.winegolftours.com.au/tour_04_Country_Pub_Tour.php&amp;usg=__H4_XruQVrjtytfswb__66mEOxhw=&amp;h=600&amp;w=800&amp;sz=137&amp;hl=en&amp;start=4&amp;tbnid=pxWVfx-vS15nmM:&amp;tbnh=107&amp;tbnw=143&amp;prev=/images%3Fq%3Dpub%26gbv%3D2%26hl%3Den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erghuis.co.nz/abiator/weird/ears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rightwingnews.com/graphics/sleepyclintons.jpg&amp;imgrefurl=http://www.rightwingnews.com/archives/week_2004_06_06.PHP&amp;usg=__vc3QLxQ6Bu1MuD5JbMiR1bH9ZWk=&amp;h=300&amp;w=400&amp;sz=12&amp;hl=en&amp;start=3&amp;tbnid=G2qd5ExfmZVSRM:&amp;tbnh=93&amp;tbnw=124&amp;prev=/images%3Fq%3Dnodding%2Boff%26gbv%3D2%26hl%3Den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concurringopinions.com/archives/Negotiating.jpg&amp;imgrefurl=http://www.concurringopinions.com/archives/2008/02/law_professor_l_8.html&amp;usg=__-J8vnisoge2wTY0pzO3517dhUJQ=&amp;h=593&amp;w=809&amp;sz=548&amp;hl=en&amp;start=4&amp;tbnid=FwBXUWwvB60q0M:&amp;tbnh=105&amp;tbnw=143&amp;prev=/images%3Fq%3Dnegotiation%26gbv%3D2%26hl%3Den%26sa%3DX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heritagegp.com/mw/images/negotiation.jpg&amp;imgrefurl=http://www.heritagegp.com/mw/Services.htm&amp;usg=__5b2vdEPJQy0Akr7mfl2j1xPlB1Q=&amp;h=344&amp;w=481&amp;sz=21&amp;hl=en&amp;start=2&amp;tbnid=3AgoqaiVvc7g-M:&amp;tbnh=92&amp;tbnw=129&amp;prev=/images%3Fq%3Dnegotiation%26gbv%3D2%26hl%3Den%26sa%3DX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shepherd.edu/university/calendars/calendar.jpg&amp;imgrefurl=http://www.shepherd.edu/university/calendars/&amp;usg=__7LkzxWgAoZ7kYAWGZi-ImE7wpZ4=&amp;h=400&amp;w=432&amp;sz=49&amp;hl=en&amp;start=5&amp;tbnid=_UcVZbFwsOjouM:&amp;tbnh=117&amp;tbnw=126&amp;prev=/images%3Fq%3Dcalendar%26gbv%3D2%26hl%3Den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m.au/imgres?imgurl=http://www-math.cudenver.edu/~wcherowi/clock2.gif&amp;imgrefurl=http://www-math.cudenver.edu/~wcherowi/clockar.html&amp;usg=__Xb9mxPkk-9YxCqWqG6whG9VhzZI=&amp;h=305&amp;w=297&amp;sz=3&amp;hl=en&amp;start=5&amp;tbnid=mOX41PiPpJs9JM:&amp;tbnh=116&amp;tbnw=113&amp;prev=/images%3Fq%3Dclock%26gbv%3D2%26hl%3Den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bp0.blogger.com/_Hd4PNP31TxI/RsgjjUpVNBI/AAAAAAAAAIs/sgJyFK3Cx6A/s320/burn-smithers.gif&amp;imgrefurl=http://adventuresofcancergirl.blogspot.com/2007/08/how-cool-is-this.html&amp;usg=__O1sIvnMjOHsGP3GuPMl7iQaU12Q=&amp;h=182&amp;w=225&amp;sz=14&amp;hl=en&amp;start=9&amp;tbnid=Yx84RFZGkRydAM:&amp;tbnh=87&amp;tbnw=108&amp;prev=/images%3Fq%3Dmr%2Bburns%2Bsmithers%26gbv%3D2%26hl%3De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topnews.in/sports/files/Sven-Goran-David.jpg&amp;imgrefurl=http://www.topnews.in/sports/sven-goran-eriksson-hopes-david-beckham-will-play-england-again-2252&amp;usg=__koxEq-vSnaQLEzbpp7RUaeaCxxc=&amp;h=300&amp;w=300&amp;sz=15&amp;hl=en&amp;start=1&amp;tbnid=DphdNI-ZY7a-gM:&amp;tbnh=116&amp;tbnw=116&amp;prev=/images%3Fq%3Dsven%2Bgoran%2Berikson%2Bbeckham%26gbv%3D2%26hl%3Den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delivery.superstock.com/WI/223/1538/PreviewComp/SuperStock_1538R-46625.jpg&amp;imgrefurl=http://www.superstock.com/stock-photos-images/1538R-46625&amp;usg=__vKbeSqBTHJENOx6MmaGWOwHWqnc=&amp;h=350&amp;w=350&amp;sz=57&amp;hl=en&amp;start=5&amp;tbnid=3KzRsWTAFWl9tM:&amp;tbnh=120&amp;tbnw=120&amp;prev=/images%3Fq%3Dangry%2Bboss%2Bclipart%26gbv%3D2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rachelhanley.com/wp-content/uploads/2008/04/stress_one.gif&amp;imgrefurl=http://uve-got-blogged.blogspot.com/2008/10/back-to-real.html&amp;usg=__5A8UyZWaEr2l9o72rFUV23I54tU=&amp;h=799&amp;w=800&amp;sz=248&amp;hl=en&amp;start=2&amp;tbnid=ah4p4VsKoka7sM:&amp;tbnh=143&amp;tbnw=143&amp;prev=/images%3Fq%3Dstress%26gbv%3D2%26hl%3Den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gastlichkeit.at/stress2.JPG&amp;imgrefurl=http://www.examiner.com/x-796-Mental-Health-Issues-and-Rights-Examiner~topic27268-Stress&amp;usg=__cTiAX08Ek1SFVEPdnI0R8rcv0Dw=&amp;h=356&amp;w=302&amp;sz=12&amp;hl=en&amp;start=11&amp;tbnid=zBCXAJgysuFwwM:&amp;tbnh=121&amp;tbnw=103&amp;prev=/images%3Fq%3Dstress%26gbv%3D2%26hl%3Den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razorsharpsounds.co.uk/images/people_partying_1.jpg&amp;imgrefurl=http://www.razorsharpsounds.co.uk/disco_hire_gallery_02.html&amp;usg=__IHtAJGXz9rlUZfcYWYKlIJWBxjU=&amp;h=500&amp;w=769&amp;sz=130&amp;hl=en&amp;start=13&amp;tbnid=9KKgw3IIlWKyCM:&amp;tbnh=92&amp;tbnw=142&amp;prev=/images%3Fq%3Dpartying%26gbv%3D2%26hl%3Den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delivery.superstock.com/WI/223/1538/PreviewComp/SuperStock_1538R-46625.jpg&amp;imgrefurl=http://www.superstock.com/stock-photos-images/1538R-46625&amp;usg=__vKbeSqBTHJENOx6MmaGWOwHWqnc=&amp;h=350&amp;w=350&amp;sz=57&amp;hl=en&amp;start=5&amp;tbnid=3KzRsWTAFWl9tM:&amp;tbnh=120&amp;tbnw=120&amp;prev=/images%3Fq%3Dangry%2Bboss%2Bclipart%26gbv%3D2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delivery.superstock.com/WI/223/1538/PreviewComp/SuperStock_1538R-46625.jpg&amp;imgrefurl=http://www.superstock.com/stock-photos-images/1538R-46625&amp;usg=__vKbeSqBTHJENOx6MmaGWOwHWqnc=&amp;h=350&amp;w=350&amp;sz=57&amp;hl=en&amp;start=5&amp;tbnid=3KzRsWTAFWl9tM:&amp;tbnh=120&amp;tbnw=120&amp;prev=/images%3Fq%3Dangry%2Bboss%2Bclipart%26gbv%3D2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istockphoto.com/file_thumbview_approve/2918444/2/istockphoto_2918444_salesman.jpg&amp;imgrefurl=http://www.istockphoto.com/file_closeup/what/business/2918444_salesman.php%3Fid%3D2918444&amp;usg=__uDd_wWZ3rC-7YlNDix9s92Bn-Ec=&amp;h=380&amp;w=380&amp;sz=28&amp;hl=en&amp;start=3&amp;tbnid=YInf620v_2YsOM:&amp;tbnh=123&amp;tbnw=123&amp;prev=/images%3Fq%3Dsalesman%2Bclipart%26gbv%3D2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istockphoto.com/file_thumbview_approve/2918444/2/istockphoto_2918444_salesman.jpg&amp;imgrefurl=http://www.istockphoto.com/file_closeup/what/business/2918444_salesman.php%3Fid%3D2918444&amp;usg=__uDd_wWZ3rC-7YlNDix9s92Bn-Ec=&amp;h=380&amp;w=380&amp;sz=28&amp;hl=en&amp;start=3&amp;tbnid=YInf620v_2YsOM:&amp;tbnh=123&amp;tbnw=123&amp;prev=/images%3Fq%3Dsalesman%2Bclipart%26gbv%3D2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clipartguide.com/_named_clipart_images/0511-0703-0217-1530_Boss_Talking_to_His_Employees_clipart_image.jpg&amp;imgrefurl=http://www.clipartguide.com/_pages/0511-0703-0217-1530.html&amp;usg=__QZkkpyMiEEx6LQenU9Pfxsu8DS0=&amp;h=221&amp;w=300&amp;sz=14&amp;hl=en&amp;start=9&amp;tbnid=rFPqdQDNiJTPfM:&amp;tbnh=85&amp;tbnw=116&amp;prev=/images%3Fq%3Dtalking%2Bclip%2Bart%26gbv%3D2%26hl%3De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clipartguide.com/_named_clipart_images/0511-0703-0217-1530_Boss_Talking_to_His_Employees_clipart_image.jpg&amp;imgrefurl=http://www.clipartguide.com/_pages/0511-0703-0217-1530.html&amp;usg=__QZkkpyMiEEx6LQenU9Pfxsu8DS0=&amp;h=221&amp;w=300&amp;sz=14&amp;hl=en&amp;start=9&amp;tbnid=rFPqdQDNiJTPfM:&amp;tbnh=85&amp;tbnw=116&amp;prev=/images%3Fq%3Dtalking%2Bclip%2Bart%26gbv%3D2%26hl%3De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42680" y="2071800"/>
            <a:ext cx="542916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39d"/>
                </a:solidFill>
                <a:latin typeface="Tw Cen MT"/>
              </a:rPr>
              <a:t>MANAGEMENT STYLES AND SKILLS</a:t>
            </a:r>
            <a:endParaRPr b="0" lang="en-US" sz="5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w Cen MT"/>
              </a:rPr>
              <a:t>Chapter 3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5" descr="http://tbn3.google.com/images?q=tbn:eijH9cKugin8WM:http://wallydownundy.com/wp-content/uploads/2008/04/sol-trujill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9280" y="357120"/>
            <a:ext cx="2000520" cy="1393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http://tbn3.google.com/images?q=tbn:x0JzupCB8NnVoM:http://poll-inc.com/polls/richard-branson/richard_bran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58040" y="2500200"/>
            <a:ext cx="1357200" cy="1766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http://tbn2.google.com/images?q=tbn:cbhC_UWLCu59IM:http://scrapetv.com/News/News%2520Pages/Technology/images/steve-jobs-3g-iphon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6200" y="3857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1" descr="http://tbn2.google.com/images?q=tbn:vVNij3PppxkKLM:http://usversusthem.files.wordpress.com/2008/02/barack-obama-is-on-fir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4200" y="4214880"/>
            <a:ext cx="1381320" cy="2071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3" descr="http://tbn2.google.com/images?q=tbn:Wjs64bVUTNGYXM:http://reporter.blogs.com/photos/uncategorized/2007/11/14/murdoch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5840" y="214200"/>
            <a:ext cx="1222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P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articipative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llows employees to be part of the decision-making proces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imilar to consultativ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latter management structu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High level of trust placed in employe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aff’s skill, knowledge and technical expertise recognis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5" descr="http://tbn1.google.com/images?q=tbn:K3vxfb27-SCfnM:http://www.butnerpres.org/assets/images/group_clipart.gi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507204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P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articipative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otivation and morale are generally high amongst staff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Generally, managers give staff more prais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s provide guidance to staff re: KPI’s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Dis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ime consum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aff may be unclear about their role. Eg. One minute they are allowed to make decisions, the next they are no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ore people involved – greater risk of losing control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5" name="Picture 5" descr="http://tbn1.google.com/images?q=tbn:K3vxfb27-SCfnM:http://www.butnerpres.org/assets/images/group_clipart.gi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3714840"/>
            <a:ext cx="12286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L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aissez-faire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2920" y="1600200"/>
            <a:ext cx="8786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eave well alone.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 are given control for setting direction, tasks and decision making.  Managers take a step back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 given little or no guidan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an you think of a situation where this would be a good style?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5" descr="http://tbn1.google.com/images?q=tbn:FIeZ25N6Vh5JOM:http://www.clipartof.com/images/clipart/xsmall2/15098_relaxed_blue_business_person_seated_in_a_chair_in_front_of_a_computer_his_feet_crossed_and_up_on_the_desk_while_leaning_back_and_looking_at_graphs_showing_an_increase_in_sal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71880" y="4786200"/>
            <a:ext cx="228600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L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aissez-faire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13840" y="1600200"/>
            <a:ext cx="8929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an promote creativi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aff may be feel empower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Dis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ore people involved – greater risk of losing control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aff may feel unguided and lack motiv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5" descr="http://tbn1.google.com/images?q=tbn:FIeZ25N6Vh5JOM:http://www.clipartof.com/images/clipart/xsmall2/15098_relaxed_blue_business_person_seated_in_a_chair_in_front_of_a_computer_his_feet_crossed_and_up_on_the_desk_while_leaning_back_and_looking_at_graphs_showing_an_increase_in_sal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15080" y="2214720"/>
            <a:ext cx="18144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Contingency Managemen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1600200"/>
            <a:ext cx="8929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 contingency is something that is undecided but depends on the situ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 uses whatever style fits the situation in order to be more effectiv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actors that would affect the style would b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organisation – goals, culture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mselves as a manager – personality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 – skilled/unskilled? Personality et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ask – difficulty, skills required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ther constraints – time, budget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5" descr="http://tbn2.google.com/images?q=tbn:4jTyUCx4Oc8E0M:http://www.cftopper.com/images/lib/Crap/secretary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3840" y="285840"/>
            <a:ext cx="15001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Management Skill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n order to </a:t>
            </a: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P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an, </a:t>
            </a: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O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rganise, </a:t>
            </a: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L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ad and </a:t>
            </a: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C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ntrol effectively, a manager requires certain skil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y are communication, negotiation, time management, delegation, leadership, stress management, emotional intelligence and decision mak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Communic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13840" y="1600200"/>
            <a:ext cx="8551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transmission of information to one or more persons, in a way that ensures the recipient’s understanding is a close as possible to the meaning the sender intend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f you only learn one thing from me this year, it should be </a:t>
            </a: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“Communication is the most important skill for a manager to have.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What ways do we communicate with each other?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9" name="Picture 5" descr="http://tbn0.google.com/images?q=tbn:nfSoYYRkGzSrxM:http://api.ning.com/files/Sbays6GpgIi*xV1QgPGfHdmUcAsMULncdtN2dX1wAlEvFzpMp0fkBJSfbA1jikSm7FcBPknVWmD1g4Ni3GQXDjumEItx5GVf/direct_communication_market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2120" y="0"/>
            <a:ext cx="192888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Types of Communic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13840" y="1600200"/>
            <a:ext cx="8551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Formal: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fficial. Directly related to organisational activities.  Eg. Meetings, conferences, appraisals, interviews, emails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Informal: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not official but may still be related to the organisation.  Eg. Gossip, networking, the “grapevine”, emails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2" name="Picture 5" descr="http://tbn2.google.com/images?q=tbn:J0s635BgaODkFM:http://msnbcmedia1.msn.com/j/msnbc/Components/Photos/070301/070301_bizstock_hmed_12p.hmediu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9040" y="4929120"/>
            <a:ext cx="1785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Communic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13840" y="1600200"/>
            <a:ext cx="8551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Verbal (oral)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: can be formal - meetings, conferences, interviews, phone conversations etc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r informal- gossip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Written: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ail, memos, meeting minutes etc.  Can result in errors, or TONE OF THE WRITING BEING MISREA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Non-verbal: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Body language, tone of voice (not what you are saying but how you are saying it), image of communicator, setting of meet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5" name="Picture 5" descr="http://tbn3.google.com/images?q=tbn:bJXTusdYSIox_M:http://www.finearts.utexas.edu/images/cfa/graphic_identity_guidelines/memo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72200" y="21420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Communic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85840" y="1599840"/>
            <a:ext cx="88581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                  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ould you take orders from this gu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           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rossing your arms is non-verbal communi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                    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ould a business meeting in a pub be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                   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aken seriously?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8" name="Picture 2" descr="http://tbn0.google.com/images?q=tbn:gCp0AJiv8K2dKM:http://blogs.rsvp.com.au/Bogan%2520200%2520x%252020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21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http://tbn1.google.com/images?q=tbn:-sFJ2Ep2dAOMbM:http://z.about.com/d/animatedtv/1/0/1/m/simp2006_HomerArmsCrossed_f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840" y="3124080"/>
            <a:ext cx="1357200" cy="169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http://tbn1.google.com/images?q=tbn:pxWVfx-vS15nmM:http://www.winegolftours.com.au/images/PubTourAtCommercialHotel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680" y="5214960"/>
            <a:ext cx="18572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Management Style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Management: 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a group of activities including POLC which aim to effectively and efficiently control company resources in order to meet objectives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Traditionally, there are five ways you can do this..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ll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P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eople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C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an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P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lay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L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across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Communic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42560" y="1599840"/>
            <a:ext cx="862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Dont get confuse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ommunication is not always just one of these types, it is usually a combin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ormal/Verb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ormal/writt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nformal/non-verb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nformal/verb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nformal/writte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Can you think of an example for each of thes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Barriers to effective communic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85840" y="1600200"/>
            <a:ext cx="84801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hysical distra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neffective technology (ie. Email crashe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e words used – words can mean different things to different peop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ultural differe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How credible is the person sending the message. Ie. Would you believe an email saying school had been cancelled that was sent by a student?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2" descr="http://tbn0.google.com/images?q=tbn:xlOs4OU2bzHhtM:http://www.berghuis.co.nz/abiator/weird/ea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00920" y="5143680"/>
            <a:ext cx="128592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Improving communic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13840" y="1599840"/>
            <a:ext cx="85518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llowing two-way communi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istening as well as speak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Being clear and concise – dont waffle on! (Just like in your Outcomes.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Being aware of non-verbal cues being sen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Understanding that there is a time and place for everyth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ing by wandering around (not just sitting your office all day.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2" descr="http://tbn1.google.com/images?q=tbn:G2qd5ExfmZVSRM:http://www.rightwingnews.com/graphics/sleepyclinton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50004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Negoti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1600200"/>
            <a:ext cx="8929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process of reaching an agreement through discussion and compromis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iming for a “win/win” situ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ages for a successful negoti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etting go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etting limits for compromi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stablishing positive working atmosphe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Recording information and confirming understand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5" descr="http://tbn3.google.com/images?q=tbn:FwBXUWwvB60q0M:http://www.concurringopinions.com/archives/Negotiat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72080" y="0"/>
            <a:ext cx="192888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Negoti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85840" y="1599840"/>
            <a:ext cx="84801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Knowing when to compromi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ealing the de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onfirmation of detai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Negotiation Activit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Picture 5" descr="http://tbn0.google.com/images?q=tbn:3AgoqaiVvc7g-M:http://www.heritagegp.com/mw/images/negotiati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2120" y="1928880"/>
            <a:ext cx="22860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Time Managemen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13840" y="1599840"/>
            <a:ext cx="8551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recognition by a manager that time is a finite resource and an acknowledgement that there is a need to plan time effectivel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Tw Cen MT"/>
              </a:rPr>
              <a:t>Something that you should be champions at by the end of this yea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7" name="Picture 5" descr="http://tbn1.google.com/images?q=tbn:_UcVZbFwsOjouM:http://www.shepherd.edu/university/calendars/calenda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4840" y="4429080"/>
            <a:ext cx="1714320" cy="1592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http://tbn0.google.com/images?q=tbn:mOX41PiPpJs9JM:http://www-math.cudenver.edu/~wcherowi/clock2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240" y="285840"/>
            <a:ext cx="1076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Effective Time Managemen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3840" y="1599840"/>
            <a:ext cx="85518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1. Setting out the tasks to be done – making lists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w Cen MT"/>
              </a:rPr>
              <a:t>2. Delegating tasks - 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eing able to hand tasks and responsibilities to employees but maintaining accountabil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3. Establishing priorities -based on difficulty of task and deadline – don’t leave the hardest things until last!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4. Allocating time to particular task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5. Adding in deadli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6. Review in case of changing priorities, events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Deleg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13840" y="1599840"/>
            <a:ext cx="8551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handing over of tasks, responsibility and authority to employees by managers who in turn maintain accountability for the tasks’ comple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Benefits: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’s time is freed up for other task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ress is reduc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rganisation runs more smoothly when boss is awa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 feel trusted and valu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ncreased motivation and promotion prospec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Better train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5" descr="http://tbn0.google.com/images?q=tbn:Yx84RFZGkRydAM:http://bp0.blogger.com/_Hd4PNP31TxI/RsgjjUpVNBI/AAAAAAAAAIs/sgJyFK3Cx6A/s320/burn-smither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2120" y="0"/>
            <a:ext cx="1643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Deleg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85840" y="1599840"/>
            <a:ext cx="84801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Problems: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if manager is not organised, they may not want to delegate as they dont know what is going on themselv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s might fear being “shown up.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s might not have the time or inclination to train staf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s might have an autocratic/persuasive style that does not really welcome deleg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Team Leadership skill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13840" y="1600200"/>
            <a:ext cx="8551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ose skills that the manager must employ to ensure the team is managed effectively including coaching, encouraging, conflict management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Tw Cen MT"/>
              </a:rPr>
              <a:t>The ability to work as a member of a team is one of the most important skills employers look fo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eading a team includ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learly defining roles of members and goals of grou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bility to encourage and recognise team effor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bility to resolve conflic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ing team relationshi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8" name="Picture 5" descr="http://tbn1.google.com/images?q=tbn:DphdNI-ZY7a-gM:http://www.topnews.in/sports/files/Sven-Goran-Davi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6720" y="214200"/>
            <a:ext cx="15001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A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utocratic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rictly top-down, hierarchic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uthoritarian. Communication is one-wa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Boss maintains all control and makes all decisions then tells staff what to d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 given information on a “need to know” basi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You are paid for what you do here, surely that is enough!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o things by the book and expect the same from employe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2" descr="http://tbn1.google.com/images?q=tbn:3KzRsWTAFWl9tM:http://wwwdelivery.superstock.com/WI/223/1538/PreviewComp/SuperStock_1538R-4662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29680" y="0"/>
            <a:ext cx="171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Stress Managemen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13840" y="1599840"/>
            <a:ext cx="8551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ink of all the tasks a manager might be expected to do in a single day and you will understand how they could experience </a:t>
            </a: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STRES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Think of some things that make you stressed and how you react when stress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1" name="Picture 5" descr="http://tbn1.google.com/images?q=tbn:ah4p4VsKoka7sM:http://rachelhanley.com/wp-content/uploads/2008/04/stress_on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4500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What influences Stress?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13840" y="1600200"/>
            <a:ext cx="8551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emands of the jo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evel of skill (theirs and employee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Physical deman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Poor interpersonal skills/relationships with employe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Signs of stres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ncreased absenteeis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lln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ecreased performance, motivation, mora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4" name="Picture 5" descr="http://tbn3.google.com/images?q=tbn:zBCXAJgysuFwwM:http://www.gastlichkeit.at/stress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00880" y="4000680"/>
            <a:ext cx="1714320" cy="20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Avoiding Stress (think of these this year!!!!) 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13840" y="1599840"/>
            <a:ext cx="8551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Tw Cen MT"/>
              </a:rPr>
              <a:t>Improving time manag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Keeping well informed (no nasty surprise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aying “No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Redesigning tasks of office sp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Keeping fit and health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sking for HELP!!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ess of this -                      More of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                                               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is -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7" name="Picture 5" descr="http://tbn0.google.com/images?q=tbn:9KKgw3IIlWKyCM:http://www.razorsharpsounds.co.uk/images/people_partying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5143680"/>
            <a:ext cx="1874880" cy="12142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7" descr="http://tbn0.google.com/images?q=tbn:IPAILuW76CEkRM:http://www.onlyscience.org/wp-content/uploads/2008/03/nerd.jpg"/>
          <p:cNvPicPr/>
          <p:nvPr/>
        </p:nvPicPr>
        <p:blipFill>
          <a:blip r:embed="rId3"/>
          <a:stretch/>
        </p:blipFill>
        <p:spPr>
          <a:xfrm>
            <a:off x="6357960" y="5000760"/>
            <a:ext cx="235728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Emotional Intelligence (EQ)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13840" y="1600200"/>
            <a:ext cx="8551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awareness of not only one’s own emotions, but also the emotions of othe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elf-manage/control impuls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Be socially awa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 leader who recognises that employees emotions play an important role in the workplace will be able to motivate staff and increase productivi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1" name="Picture 7" descr="http://tbn2.google.com/images?q=tbn:QyOuHYzlMm9StM:http://wwwdelivery.superstock.com/WI/223/1538/PreviewComp/SuperStock_1538R-7033.jpg"/>
          <p:cNvPicPr/>
          <p:nvPr/>
        </p:nvPicPr>
        <p:blipFill>
          <a:blip r:embed="rId1"/>
          <a:stretch/>
        </p:blipFill>
        <p:spPr>
          <a:xfrm>
            <a:off x="3000240" y="5072040"/>
            <a:ext cx="27860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Decision Making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13840" y="1600200"/>
            <a:ext cx="8551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process of making choices from available alternativ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ADIM (from Polc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mportant not only to make decision, but also follow up and review results of decis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ffective communication of decisions and reasons for decisions importan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4" name="Picture 7" descr="http://tbn0.google.com/images?q=tbn:qO_4QQg9fvInYM:http://www.getentrepreneurial.com/images/decision-making.jpg"/>
          <p:cNvPicPr/>
          <p:nvPr/>
        </p:nvPicPr>
        <p:blipFill>
          <a:blip r:embed="rId1"/>
          <a:stretch/>
        </p:blipFill>
        <p:spPr>
          <a:xfrm>
            <a:off x="4000680" y="4714920"/>
            <a:ext cx="17856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A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utocratic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13840" y="1600200"/>
            <a:ext cx="8551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ecisions are made quickly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No confusion over who is in char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irection is cle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Dis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auses poor morale and low motiv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hows lack of tru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ow job satisfaction for staf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2" descr="http://tbn1.google.com/images?q=tbn:3KzRsWTAFWl9tM:http://wwwdelivery.superstock.com/WI/223/1538/PreviewComp/SuperStock_1538R-4662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242892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A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utocratic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w Cen MT"/>
              </a:rPr>
              <a:t>Can you think of situations when this style would be suitable ???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2" descr="http://tbn1.google.com/images?q=tbn:3KzRsWTAFWl9tM:http://wwwdelivery.superstock.com/WI/223/1538/PreviewComp/SuperStock_1538R-4662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15040" y="385776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P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ersuasive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85840" y="1599840"/>
            <a:ext cx="84801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imilar to autocratic, except that managers attempt to </a:t>
            </a: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persuade or “sell”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o employees the decisions they have mad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ecision making is still centralised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rom now on you all have to start at 8am.  Just think of all the peak hour traffic you will miss by starting that little bit earlier.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ne –way communic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s seek to gain trust from employees by attempting to assure them all decisions are made with their best interests in min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2" descr="http://tbn3.google.com/images?q=tbn:YInf620v_2YsOM:http://www.istockphoto.com/file_thumbview_approve/2918444/2/istockphoto_2918444_salesm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43880" y="2142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P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ersuasive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ecisions are made quickly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No confusion over who is in char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irection is cle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 may feel valued if the “selling” is done effectivel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Dis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ill could cause poor morale and low motiv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hows lack of tru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ow job satisfaction for staf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3" name="Picture 2" descr="http://tbn3.google.com/images?q=tbn:YInf620v_2YsOM:http://www.istockphoto.com/file_thumbview_approve/2918444/2/istockphoto_2918444_salesm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17859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C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onsultative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s are willing to consult with subordinates and understand the importance of positive relationships with employe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latter management structu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wo-way communication but at the end of the day, management still make the final decis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5" descr="http://tbn2.google.com/images?q=tbn:rFPqdQDNiJTPfM:http://www.clipartguide.com/_named_clipart_images/0511-0703-0217-1530_Boss_Talking_to_His_Employees_clipart_im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080" y="214200"/>
            <a:ext cx="128592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C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onsultative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3840" y="1213920"/>
            <a:ext cx="8551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 feel valued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 have opportunity to have their opinions heard – they could be good ideas that benefit the busines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Good morale and motivation leve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Dis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ime consum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Not all ideas can be implemented. Could cause ten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ight not be able to consult every time. Inconsisten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9" name="Picture 5" descr="http://tbn2.google.com/images?q=tbn:rFPqdQDNiJTPfM:http://www.clipartguide.com/_named_clipart_images/0511-0703-0217-1530_Boss_Talking_to_His_Employees_clipart_im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9280" y="3643200"/>
            <a:ext cx="16434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2:56:38Z</dcterms:created>
  <dc:creator>lda</dc:creator>
  <dc:description/>
  <dc:language>en-US</dc:language>
  <cp:lastModifiedBy>Ern Reichelt</cp:lastModifiedBy>
  <dcterms:modified xsi:type="dcterms:W3CDTF">2011-03-28T11:21:32Z</dcterms:modified>
  <cp:revision>38</cp:revision>
  <dc:subject/>
  <dc:title>Operations management</dc:title>
</cp:coreProperties>
</file>